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9779-2FF0-4311-81EB-CA717FA9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sson 5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EFC6-DD7B-4089-897D-8A165FD836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304-BA16-4D53-8014-0672B818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14D-A005-441B-B0C8-44BAED28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33679-3B61-4487-B5F9-A0CC2C1A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2AF66-35BC-4023-A11C-D1669E01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48F30-DC81-43AA-B4FE-6DC76797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D6443-52A6-4C60-9D09-4A5AC9B7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0B1A1-4391-4B7F-A0CF-5153EB63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DB590-A827-4563-9C66-7F94BB82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B74F3-3FF8-41FA-8B44-7F7F087D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39143-FD83-4A11-B288-E6C686BF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DFD27-C10D-4A55-9A12-FE8A4A49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0AFE2-8CA7-4132-B1E6-02E58BDF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26D-1F6A-4F48-996C-6AA4F53E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23F24-6BF1-48C5-A7A3-3A4BF98E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7569E-58FF-4A3F-BA07-6E58FFA1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131ED-2F57-4833-8E3A-AF199D44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8CEDB-4C42-4AD3-BEBF-ABDF5FFE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C48D8-A0F4-4DB8-AE7C-9C9F4960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F09C5-F10F-487B-8ACF-48F2F9C3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AB41D-E513-4F37-B59F-189E5F3A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616F5-4026-4E9E-8289-22FB432D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5E92F-2178-432A-B3A1-6BBECFC6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01D02-642E-49D3-9D63-DE22935C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AC2-2D07-4B6A-9F9A-15D7FFE9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7558E-5822-4C5E-9847-E80F3F95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83411-440E-4A22-9FFF-483A3880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7A0D2-D049-4B1F-BFC1-D1D2A173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7B1AE-C79F-4F8A-915E-4BFFF0B5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C9433-D907-466F-A1B4-87D194E9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D9019-8373-496D-898A-17221032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9EA5B-1751-4269-B242-DE630585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9F273-5CCD-4557-BA3C-89FBB236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3C7FA-1C7E-4518-B01C-80941DA1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C7605-3D3A-4377-8FB0-D73481EB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DBF7-C341-440B-ADCF-74B20F35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4BBA4-70EA-42DF-9D77-C7D611EC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2554C-9ECE-464A-8FAD-55D01376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18092-9A69-4E4F-AE36-D841D6FD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0359B-1F9B-4E20-B7E0-58E24CFE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C1BA7-E3DA-4859-8287-A7A5EB51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E27DC-351F-46AE-B17F-95E80BED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A3A54-2F57-4097-A585-6FC24235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EF32C-C50C-43F7-8D88-F822FD24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B3DA1-34A9-48D9-B734-0CA3DC36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04EED-F2BE-41A7-A294-5E6C8BFB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4B80-3E88-4A7B-A5BD-EAD48468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835E3-8AB5-4FFF-95DF-C6A7CD4E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CE973-7FFD-4B59-8663-9368F28A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7C24B-A7B9-4899-8080-919ADBAE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B5575-9443-46E3-B79E-4B0AE3A1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BD503-D44B-4CC0-91EF-3BAFE2AA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7A41-3700-4AA7-92B9-53B1B8E2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8898-A8C9-4EA3-A03B-B2B4AF17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FDAD-C61E-49D4-92AB-E0EB9C57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51A2-6FED-4497-80AD-A6E3E3BF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705D-B50F-4F83-8498-2AD25342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9F2-F708-41BC-85CA-5F433B80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64C6-951C-4A2E-B6B4-C8045A07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C7F4-A0DB-47E5-973B-95ACD88C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DB16-059A-49F0-9D22-E760B743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3FA8-0004-43F1-ADF5-388641A0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3EAE-76D3-431C-8D02-209A7BDC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A823-513D-41C8-A3C6-56EECD5B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5EBC-ACC0-45C6-9FA0-665E24CF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54583-AD7E-450F-AFAC-66F06FFA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12722-D771-4653-B19C-BFEE45EB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444F-6684-4F2C-BCC8-24E88960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5C9-D9B8-4757-90C3-ED044372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4CCC-E9B0-4750-965B-F1FBA4BC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A9525-3E96-479B-B337-C595489C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D5D4C-8007-4070-9123-FE9192AF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74B0-5961-48E1-A2E2-644F7B2E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8D95-D551-453F-8F01-F6F39AFC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71C57-9C00-4560-A267-35125C08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763C-2F96-4381-B3E7-5B248C92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40CD-FA21-4B25-A09C-9DD25865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F7C1-B7CE-4B7B-9680-848740B3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5CA1-0F7A-4203-B58F-5D8B1A74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A0E-6348-40D1-90D4-8A3E0FB5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7089-AD06-47AE-A419-8D699ACD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5D981-2E9C-430D-AE80-DA3EEE8C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8A961-D73F-48A4-9145-2375BF97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8557-0257-475D-8F4D-7C240908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E061-5C3F-44EC-B2C4-960F0BAB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03AF7-1F61-4C79-981D-DA671CD5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EF0F-7212-4435-AB6B-BC621A2B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F7EE-3376-4069-9F5A-50E9C7CA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E8C1-62B8-400E-96BA-6955CE4B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C2F4E-08C8-473E-928F-B65AC624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FA5-6305-47E1-893A-5A4460DA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85F0B-4388-457D-976B-F5F81E2C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12AAB-2785-4BFC-B5D8-41A6C0FE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56FB2-0071-4A95-9055-86169F80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2E4B8-9811-428A-8C9E-A40591D0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9455D-5E51-4AA9-99E2-E2454EE7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C696D-54D6-44FB-9B58-1FA00087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D4330-3664-4EDF-A12F-40E8D142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29177-9A89-4356-93A6-2F8E5964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2D125-4FD3-4ADC-9227-2B7B573C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70F58-44C7-4FB4-805A-EEC47029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4BB-B4E9-4F30-B6A7-1C72A506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D6DBA-FC7F-4EB3-8176-8ED63CC1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0EC9F-F24E-497A-9AA2-CE96D6B6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30DAA-FCE5-441D-B752-79F0B74F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C91F8-35A3-4527-9B97-77C63DF7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2FB70-10DF-4535-97EE-8D91C2B5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3317F-A59A-439C-9FDB-4C432835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826B7-1801-45D0-AD07-8D86BA21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F5D78-5CFD-427D-879C-1BBC1EE1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8CC20-C33B-443D-B1F9-0B2D1191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A7DEB-9E3A-4156-B2F5-085F3F5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CDB-C400-43D2-AD63-4F906F53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0A6C5-ACF0-4312-AF12-C696C493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14D98-966F-4184-B3F6-9E7FAC7A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DF5E2-927F-42EB-BA18-A73B8CEC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ADD77-4756-4E88-B7EB-B9C70C8D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748BE-C209-4D47-9EEA-E5FE58E3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FD454-FDE3-448F-B40B-1D9F73E5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C988F-062B-47BA-A81C-A1F02FE6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510D3-19FC-43DF-BCEC-7EDE729D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E263C-F1BD-4EC0-9F00-14841DC5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FEB21-3104-4252-A64D-925D063C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108-187E-4C1E-9BDA-200B1596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D39B1-3D7D-4CCB-BD1E-B28ADD6E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C0CF3-09E8-4423-897C-3ADED928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0BCCA-0BCA-4C5B-907A-C37250C7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8681D-0552-4561-9E69-F46E0D80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04D15-367C-4383-B7E9-18CA10F0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EB7EA-51F1-471D-A7A9-7AD18A15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A2D0F-B6BC-45ED-AD8C-3511CCE7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54ED8-01C4-4244-9B09-F3EC7EBC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57663-3544-4A06-AC37-5CB27F51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4A95D-0130-4B4D-B899-04F6731A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E8E-DAAD-4F24-BE99-6D1E39BB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57233-C9A7-4ED7-82EE-FF593AC1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D7C93-EF2A-483E-8009-86788DD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E1F46-5BBB-46D2-9A24-37EFE6D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3A37C-30B4-4C4C-888C-A1AC517C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7BBA8-AF54-43BF-9613-A8CA00D5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9DA9F-64CA-4D05-8D81-B0603EAD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6A05E-8A33-4255-BDD7-D9B87670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6E44F-A618-44F8-BF63-9E2182FB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91656-1E24-4DD5-8D94-50157F28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B88A9-CF21-4755-85FF-2F3839D5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5117-83A5-40CC-B441-5B9F4D1A0B1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52FA-85E0-4BA2-AF38-36CC83FF5F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7197-A52B-4F72-80F7-91073F8344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4049-2E75-4E37-994A-9E3933D9C37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A5AF-F5D3-4F69-AC94-5DA51F96140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6AE2-3419-4A27-ABE2-9A931F378C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9CD2-47F2-492F-82E2-33A1E33DAE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FCE0-C39A-44DF-8E5F-0D0176D0BFB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EA7E-59E6-4195-B6D6-AE92561F5CD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24CA-48B3-4EB5-B93E-62699C834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0953-F0A3-4247-9E8A-8065C984822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0F00-58CD-47E4-9F20-E74E46046E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C2C0-C640-41CD-B7B0-E32EF33CC72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CBAC-0EF6-4819-A00D-A95B258AB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C231-58D3-4663-90D2-D40AADC00FF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341A-C815-49A3-8FC1-280537C841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EBDE-5D24-447D-9148-4C490972250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268D-5492-4378-A858-FDA939DF01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425F-B8B7-48D8-B115-0032DED3359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26F8-3BFA-4548-920F-3AF9C2E78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9F4C-9AF3-4750-9FDC-5E32D1BDA59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D2D2-2809-4632-9C57-E8A89F607C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B1B1-DDB9-45EB-B1F4-EC6690D9E4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150A-2AB7-4840-A8A2-E60ACA5698C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osting Separate Amounts from a Journal to a General Ledg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d16349"/>
                </a:solidFill>
                <a:uFillTx/>
                <a:latin typeface="Georgia"/>
              </a:rPr>
              <a:t>POSTING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TRANSFERRING INFORMATION FROM A JOURNAL ENTRY TO A LEDGER ACCOUNT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POSTING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d16349"/>
                </a:solidFill>
                <a:uFillTx/>
                <a:latin typeface="Georgia"/>
              </a:rPr>
              <a:t>POSTIN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Subtitle 3"/>
          <p:cNvSpPr/>
          <p:nvPr/>
        </p:nvSpPr>
        <p:spPr>
          <a:xfrm>
            <a:off x="228600" y="1143000"/>
            <a:ext cx="8610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TRANSFERRING INFORMATION FROM A JOURNAL ENTRY TO A LEDGER ACCOUNT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d16349"/>
                </a:solidFill>
                <a:uFillTx/>
                <a:latin typeface="Georgia"/>
              </a:rPr>
              <a:t>POSTING RU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Baskerville"/>
                <a:ea typeface="Baskerville"/>
              </a:rPr>
              <a:t>1.) </a:t>
            </a:r>
            <a:r>
              <a:rPr b="1" lang="en-US" sz="1800" spc="-1" strike="noStrike">
                <a:solidFill>
                  <a:srgbClr val="646b86"/>
                </a:solidFill>
                <a:latin typeface="Baskerville"/>
                <a:ea typeface="Baskerville"/>
              </a:rPr>
              <a:t>SEPARATE AMOUNTS IN THE JOURNAL’S </a:t>
            </a:r>
            <a:r>
              <a:rPr b="1" lang="en-US" sz="1800" spc="-1" strike="noStrike">
                <a:solidFill>
                  <a:srgbClr val="cc0000"/>
                </a:solidFill>
                <a:latin typeface="Baskerville"/>
                <a:ea typeface="Baskerville"/>
              </a:rPr>
              <a:t>GENERAL AMOUNT COLUMNS </a:t>
            </a:r>
            <a:r>
              <a:rPr b="1" lang="en-US" sz="1800" spc="-1" strike="noStrike">
                <a:solidFill>
                  <a:srgbClr val="646b86"/>
                </a:solidFill>
                <a:latin typeface="Baskerville"/>
                <a:ea typeface="Baskerville"/>
              </a:rPr>
              <a:t>ARE POSTED INDIVIDUALLY TO THE ACCOUNT WRITTEN IN THE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Baskerville"/>
                <a:ea typeface="Baskerville"/>
              </a:rPr>
              <a:t>ACCOUNT TITLE COLUMN</a:t>
            </a:r>
            <a:r>
              <a:rPr b="1" lang="en-US" sz="1800" spc="-1" strike="noStrike" u="sng">
                <a:solidFill>
                  <a:srgbClr val="646b86"/>
                </a:solidFill>
                <a:uFillTx/>
                <a:latin typeface="Baskerville"/>
                <a:ea typeface="Baskerville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"/>
                <a:ea typeface="Baskerville"/>
              </a:rPr>
              <a:t>2.) </a:t>
            </a:r>
            <a:r>
              <a:rPr b="1" lang="en-US" sz="1800" spc="-1" strike="noStrike">
                <a:solidFill>
                  <a:srgbClr val="646b86"/>
                </a:solidFill>
                <a:latin typeface="Baskerville"/>
                <a:ea typeface="Baskerville"/>
              </a:rPr>
              <a:t>SEPARATE AMOUNTS IN A JOURNAL’S </a:t>
            </a:r>
            <a:r>
              <a:rPr b="1" lang="en-US" sz="1800" spc="-1" strike="noStrike">
                <a:solidFill>
                  <a:srgbClr val="cc0000"/>
                </a:solidFill>
                <a:latin typeface="Baskerville"/>
                <a:ea typeface="Baskerville"/>
              </a:rPr>
              <a:t>SPECIAL AMOUNT COLUMNS </a:t>
            </a:r>
            <a:r>
              <a:rPr b="1" lang="en-US" sz="1800" spc="-1" strike="noStrike">
                <a:solidFill>
                  <a:srgbClr val="646b86"/>
                </a:solidFill>
                <a:latin typeface="Baskerville"/>
                <a:ea typeface="Baskerville"/>
              </a:rPr>
              <a:t>ARE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Baskerville"/>
                <a:ea typeface="Baskerville"/>
              </a:rPr>
              <a:t>NOT</a:t>
            </a:r>
            <a:r>
              <a:rPr b="1" lang="en-US" sz="1800" spc="-1" strike="noStrike">
                <a:solidFill>
                  <a:srgbClr val="646b86"/>
                </a:solidFill>
                <a:latin typeface="Baskerville"/>
                <a:ea typeface="Baskerville"/>
              </a:rPr>
              <a:t> POSTED INDIVIDUALLY.  INSTEAD, THE COLUMN TOTALS ARE POSTED TO THE ACCOUNT NAMED IN THE HEADING OF THE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Baskerville"/>
                <a:ea typeface="Baskerville"/>
              </a:rPr>
              <a:t>SPECIAL AMOUNT COLUM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b9899"/>
                </a:solidFill>
                <a:latin typeface="Georgia"/>
              </a:rPr>
              <a:t>POSTING AN AMOUNT FROM A </a:t>
            </a:r>
            <a:br>
              <a:rPr sz="2700"/>
            </a:br>
            <a:r>
              <a:rPr b="0" lang="en-US" sz="2700" spc="-1" strike="noStrike">
                <a:solidFill>
                  <a:srgbClr val="7b9899"/>
                </a:solidFill>
                <a:latin typeface="Georgia"/>
              </a:rPr>
              <a:t>GENERAL DEBIT COLUMN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Picture 3" descr="D:\C21 PowerPoint\Multi_Journal\art for blue\Ch05\Ch05-02a.jpg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29718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9"/>
          <p:cNvSpPr/>
          <p:nvPr/>
        </p:nvSpPr>
        <p:spPr>
          <a:xfrm>
            <a:off x="365040" y="427824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11"/>
          <p:cNvGrpSpPr/>
          <p:nvPr/>
        </p:nvGrpSpPr>
        <p:grpSpPr>
          <a:xfrm>
            <a:off x="3885840" y="2361960"/>
            <a:ext cx="1676520" cy="609480"/>
            <a:chOff x="3885840" y="2361960"/>
            <a:chExt cx="1676520" cy="609480"/>
          </a:xfrm>
        </p:grpSpPr>
        <p:sp>
          <p:nvSpPr>
            <p:cNvPr id="621" name="Line 10"/>
            <p:cNvSpPr/>
            <p:nvPr/>
          </p:nvSpPr>
          <p:spPr>
            <a:xfrm flipH="1" flipV="1">
              <a:off x="3885840" y="2361960"/>
              <a:ext cx="1676520" cy="609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"/>
            <p:cNvSpPr/>
            <p:nvPr/>
          </p:nvSpPr>
          <p:spPr>
            <a:xfrm>
              <a:off x="4495680" y="24382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4"/>
          <p:cNvGrpSpPr/>
          <p:nvPr/>
        </p:nvGrpSpPr>
        <p:grpSpPr>
          <a:xfrm>
            <a:off x="2514600" y="1482840"/>
            <a:ext cx="5410080" cy="3141720"/>
            <a:chOff x="2514600" y="1482840"/>
            <a:chExt cx="5410080" cy="3141720"/>
          </a:xfrm>
        </p:grpSpPr>
        <p:sp>
          <p:nvSpPr>
            <p:cNvPr id="624" name="Freeform 13"/>
            <p:cNvSpPr/>
            <p:nvPr/>
          </p:nvSpPr>
          <p:spPr>
            <a:xfrm>
              <a:off x="2514600" y="1482840"/>
              <a:ext cx="5410080" cy="28954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8"/>
            <p:cNvSpPr/>
            <p:nvPr/>
          </p:nvSpPr>
          <p:spPr>
            <a:xfrm>
              <a:off x="5925960" y="416736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15"/>
          <p:cNvGrpSpPr/>
          <p:nvPr/>
        </p:nvGrpSpPr>
        <p:grpSpPr>
          <a:xfrm>
            <a:off x="3505320" y="3487680"/>
            <a:ext cx="914400" cy="457200"/>
            <a:chOff x="3505320" y="3487680"/>
            <a:chExt cx="914400" cy="457200"/>
          </a:xfrm>
        </p:grpSpPr>
        <p:sp>
          <p:nvSpPr>
            <p:cNvPr id="627" name="Line 14"/>
            <p:cNvSpPr/>
            <p:nvPr/>
          </p:nvSpPr>
          <p:spPr>
            <a:xfrm>
              <a:off x="3505320" y="3716280"/>
              <a:ext cx="9144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7"/>
            <p:cNvSpPr/>
            <p:nvPr/>
          </p:nvSpPr>
          <p:spPr>
            <a:xfrm>
              <a:off x="3733920" y="34876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7"/>
          <p:cNvGrpSpPr/>
          <p:nvPr/>
        </p:nvGrpSpPr>
        <p:grpSpPr>
          <a:xfrm>
            <a:off x="380880" y="2362320"/>
            <a:ext cx="785880" cy="1143000"/>
            <a:chOff x="380880" y="2362320"/>
            <a:chExt cx="785880" cy="1143000"/>
          </a:xfrm>
        </p:grpSpPr>
        <p:sp>
          <p:nvSpPr>
            <p:cNvPr id="630" name="Freeform 16"/>
            <p:cNvSpPr/>
            <p:nvPr/>
          </p:nvSpPr>
          <p:spPr>
            <a:xfrm>
              <a:off x="709560" y="2362320"/>
              <a:ext cx="457200" cy="11430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5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19"/>
          <p:cNvGrpSpPr/>
          <p:nvPr/>
        </p:nvGrpSpPr>
        <p:grpSpPr>
          <a:xfrm>
            <a:off x="3276720" y="2362320"/>
            <a:ext cx="1218960" cy="1218960"/>
            <a:chOff x="3276720" y="2362320"/>
            <a:chExt cx="1218960" cy="1218960"/>
          </a:xfrm>
        </p:grpSpPr>
        <p:sp>
          <p:nvSpPr>
            <p:cNvPr id="633" name="Line 18"/>
            <p:cNvSpPr/>
            <p:nvPr/>
          </p:nvSpPr>
          <p:spPr>
            <a:xfrm flipH="1">
              <a:off x="3276720" y="2362320"/>
              <a:ext cx="121896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6"/>
            <p:cNvSpPr/>
            <p:nvPr/>
          </p:nvSpPr>
          <p:spPr>
            <a:xfrm>
              <a:off x="3809880" y="281952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20"/>
          <p:cNvSpPr/>
          <p:nvPr/>
        </p:nvSpPr>
        <p:spPr>
          <a:xfrm>
            <a:off x="365040" y="46483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journal page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363600" y="50115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365040" y="53751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new account bal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363600" y="571500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number in the Post. Ref. column of the journ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5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2, page 10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9899"/>
                </a:solidFill>
                <a:latin typeface="Georgia"/>
              </a:rPr>
              <a:t>POSTING A SECOND AMOUNT TO AN ACCOUNT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Picture 3" descr="D:\C21 PowerPoint\Multi_Journal\art for blue\Ch05\Ch05-02b.jpg"/>
          <p:cNvPicPr/>
          <p:nvPr/>
        </p:nvPicPr>
        <p:blipFill>
          <a:blip r:embed="rId1"/>
          <a:srcRect l="0" t="7375" r="0" b="18227"/>
          <a:stretch/>
        </p:blipFill>
        <p:spPr>
          <a:xfrm>
            <a:off x="457200" y="685800"/>
            <a:ext cx="8182080" cy="396540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4"/>
          <p:cNvSpPr/>
          <p:nvPr/>
        </p:nvSpPr>
        <p:spPr>
          <a:xfrm>
            <a:off x="365040" y="47275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28"/>
          <p:cNvGrpSpPr/>
          <p:nvPr/>
        </p:nvGrpSpPr>
        <p:grpSpPr>
          <a:xfrm>
            <a:off x="3885840" y="2285640"/>
            <a:ext cx="1676520" cy="990360"/>
            <a:chOff x="3885840" y="2285640"/>
            <a:chExt cx="1676520" cy="990360"/>
          </a:xfrm>
        </p:grpSpPr>
        <p:sp>
          <p:nvSpPr>
            <p:cNvPr id="644" name="Line 6"/>
            <p:cNvSpPr/>
            <p:nvPr/>
          </p:nvSpPr>
          <p:spPr>
            <a:xfrm flipH="1" flipV="1">
              <a:off x="3885840" y="2285640"/>
              <a:ext cx="1676520" cy="990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7"/>
            <p:cNvSpPr/>
            <p:nvPr/>
          </p:nvSpPr>
          <p:spPr>
            <a:xfrm>
              <a:off x="4648320" y="259056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4"/>
          <p:cNvGrpSpPr/>
          <p:nvPr/>
        </p:nvGrpSpPr>
        <p:grpSpPr>
          <a:xfrm>
            <a:off x="2514600" y="934920"/>
            <a:ext cx="5410080" cy="4190760"/>
            <a:chOff x="2514600" y="934920"/>
            <a:chExt cx="5410080" cy="4190760"/>
          </a:xfrm>
        </p:grpSpPr>
        <p:sp>
          <p:nvSpPr>
            <p:cNvPr id="647" name="Freeform 9"/>
            <p:cNvSpPr/>
            <p:nvPr/>
          </p:nvSpPr>
          <p:spPr>
            <a:xfrm>
              <a:off x="2514600" y="934920"/>
              <a:ext cx="5410080" cy="39621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0"/>
            <p:cNvSpPr/>
            <p:nvPr/>
          </p:nvSpPr>
          <p:spPr>
            <a:xfrm>
              <a:off x="5925960" y="46684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1"/>
          <p:cNvGrpSpPr/>
          <p:nvPr/>
        </p:nvGrpSpPr>
        <p:grpSpPr>
          <a:xfrm>
            <a:off x="3505320" y="3962520"/>
            <a:ext cx="914400" cy="457200"/>
            <a:chOff x="3505320" y="3962520"/>
            <a:chExt cx="914400" cy="457200"/>
          </a:xfrm>
        </p:grpSpPr>
        <p:sp>
          <p:nvSpPr>
            <p:cNvPr id="650" name="Line 12"/>
            <p:cNvSpPr/>
            <p:nvPr/>
          </p:nvSpPr>
          <p:spPr>
            <a:xfrm>
              <a:off x="3505320" y="4191120"/>
              <a:ext cx="9144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3"/>
            <p:cNvSpPr/>
            <p:nvPr/>
          </p:nvSpPr>
          <p:spPr>
            <a:xfrm>
              <a:off x="3733920" y="396252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27"/>
          <p:cNvGrpSpPr/>
          <p:nvPr/>
        </p:nvGrpSpPr>
        <p:grpSpPr>
          <a:xfrm>
            <a:off x="3352320" y="2286000"/>
            <a:ext cx="1143000" cy="1828800"/>
            <a:chOff x="3352320" y="2286000"/>
            <a:chExt cx="1143000" cy="1828800"/>
          </a:xfrm>
        </p:grpSpPr>
        <p:sp>
          <p:nvSpPr>
            <p:cNvPr id="653" name="Line 18"/>
            <p:cNvSpPr/>
            <p:nvPr/>
          </p:nvSpPr>
          <p:spPr>
            <a:xfrm flipH="1">
              <a:off x="3352320" y="2286000"/>
              <a:ext cx="1143000" cy="18288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9"/>
            <p:cNvSpPr/>
            <p:nvPr/>
          </p:nvSpPr>
          <p:spPr>
            <a:xfrm>
              <a:off x="3809880" y="27432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20"/>
          <p:cNvSpPr/>
          <p:nvPr/>
        </p:nvSpPr>
        <p:spPr>
          <a:xfrm>
            <a:off x="365040" y="50292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journal page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363600" y="53341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365040" y="56386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new account bal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3"/>
          <p:cNvSpPr/>
          <p:nvPr/>
        </p:nvSpPr>
        <p:spPr>
          <a:xfrm>
            <a:off x="363600" y="5943600"/>
            <a:ext cx="87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number in the Post. Ref. column of the journ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6"/>
          <p:cNvGrpSpPr/>
          <p:nvPr/>
        </p:nvGrpSpPr>
        <p:grpSpPr>
          <a:xfrm>
            <a:off x="380880" y="2209680"/>
            <a:ext cx="762120" cy="1981080"/>
            <a:chOff x="380880" y="2209680"/>
            <a:chExt cx="762120" cy="1981080"/>
          </a:xfrm>
        </p:grpSpPr>
        <p:sp>
          <p:nvSpPr>
            <p:cNvPr id="660" name="Freeform 25"/>
            <p:cNvSpPr/>
            <p:nvPr/>
          </p:nvSpPr>
          <p:spPr>
            <a:xfrm>
              <a:off x="533520" y="2209680"/>
              <a:ext cx="609480" cy="19810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6"/>
            <p:cNvSpPr/>
            <p:nvPr/>
          </p:nvSpPr>
          <p:spPr>
            <a:xfrm>
              <a:off x="380880" y="24382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POSTING AN AMOUNT FROM 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A GENERAL CREDIT COLUMN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3" name="Picture 3" descr="D:\C21 PowerPoint\Multi_Journal\art for blue\Ch05\Ch05-02c.jpg"/>
          <p:cNvPicPr/>
          <p:nvPr/>
        </p:nvPicPr>
        <p:blipFill>
          <a:blip r:embed="rId1"/>
          <a:stretch/>
        </p:blipFill>
        <p:spPr>
          <a:xfrm>
            <a:off x="457200" y="1143000"/>
            <a:ext cx="8062920" cy="294480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4"/>
          <p:cNvSpPr/>
          <p:nvPr/>
        </p:nvSpPr>
        <p:spPr>
          <a:xfrm>
            <a:off x="365040" y="427824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26"/>
          <p:cNvGrpSpPr/>
          <p:nvPr/>
        </p:nvGrpSpPr>
        <p:grpSpPr>
          <a:xfrm>
            <a:off x="3885840" y="2133720"/>
            <a:ext cx="1600560" cy="761760"/>
            <a:chOff x="3885840" y="2133720"/>
            <a:chExt cx="1600560" cy="761760"/>
          </a:xfrm>
        </p:grpSpPr>
        <p:sp>
          <p:nvSpPr>
            <p:cNvPr id="666" name="Line 6"/>
            <p:cNvSpPr/>
            <p:nvPr/>
          </p:nvSpPr>
          <p:spPr>
            <a:xfrm flipH="1" flipV="1">
              <a:off x="3885840" y="2133720"/>
              <a:ext cx="1600200" cy="761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7"/>
            <p:cNvSpPr/>
            <p:nvPr/>
          </p:nvSpPr>
          <p:spPr>
            <a:xfrm>
              <a:off x="5029200" y="236232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8"/>
          <p:cNvGrpSpPr/>
          <p:nvPr/>
        </p:nvGrpSpPr>
        <p:grpSpPr>
          <a:xfrm>
            <a:off x="2438280" y="1482840"/>
            <a:ext cx="5410080" cy="3141720"/>
            <a:chOff x="2438280" y="1482840"/>
            <a:chExt cx="5410080" cy="3141720"/>
          </a:xfrm>
        </p:grpSpPr>
        <p:sp>
          <p:nvSpPr>
            <p:cNvPr id="669" name="Freeform 9"/>
            <p:cNvSpPr/>
            <p:nvPr/>
          </p:nvSpPr>
          <p:spPr>
            <a:xfrm>
              <a:off x="2438280" y="1482840"/>
              <a:ext cx="5410080" cy="28954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5849640" y="416736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24"/>
          <p:cNvGrpSpPr/>
          <p:nvPr/>
        </p:nvGrpSpPr>
        <p:grpSpPr>
          <a:xfrm>
            <a:off x="4267080" y="3452760"/>
            <a:ext cx="838440" cy="457200"/>
            <a:chOff x="4267080" y="3452760"/>
            <a:chExt cx="838440" cy="457200"/>
          </a:xfrm>
        </p:grpSpPr>
        <p:sp>
          <p:nvSpPr>
            <p:cNvPr id="672" name="Line 12"/>
            <p:cNvSpPr/>
            <p:nvPr/>
          </p:nvSpPr>
          <p:spPr>
            <a:xfrm>
              <a:off x="4267080" y="3657600"/>
              <a:ext cx="838440" cy="23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4419720" y="345276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28"/>
          <p:cNvGrpSpPr/>
          <p:nvPr/>
        </p:nvGrpSpPr>
        <p:grpSpPr>
          <a:xfrm>
            <a:off x="380880" y="2209680"/>
            <a:ext cx="685800" cy="1295640"/>
            <a:chOff x="380880" y="2209680"/>
            <a:chExt cx="685800" cy="1295640"/>
          </a:xfrm>
        </p:grpSpPr>
        <p:sp>
          <p:nvSpPr>
            <p:cNvPr id="675" name="Freeform 15"/>
            <p:cNvSpPr/>
            <p:nvPr/>
          </p:nvSpPr>
          <p:spPr>
            <a:xfrm>
              <a:off x="709560" y="2209680"/>
              <a:ext cx="357120" cy="12956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27"/>
          <p:cNvGrpSpPr/>
          <p:nvPr/>
        </p:nvGrpSpPr>
        <p:grpSpPr>
          <a:xfrm>
            <a:off x="3885840" y="2209680"/>
            <a:ext cx="1143000" cy="1371600"/>
            <a:chOff x="3885840" y="2209680"/>
            <a:chExt cx="1143000" cy="1371600"/>
          </a:xfrm>
        </p:grpSpPr>
        <p:sp>
          <p:nvSpPr>
            <p:cNvPr id="678" name="Line 18"/>
            <p:cNvSpPr/>
            <p:nvPr/>
          </p:nvSpPr>
          <p:spPr>
            <a:xfrm flipH="1">
              <a:off x="3885840" y="2209680"/>
              <a:ext cx="1143000" cy="1371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4038480" y="27432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20"/>
          <p:cNvSpPr/>
          <p:nvPr/>
        </p:nvSpPr>
        <p:spPr>
          <a:xfrm>
            <a:off x="365040" y="46483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journal page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1"/>
          <p:cNvSpPr/>
          <p:nvPr/>
        </p:nvSpPr>
        <p:spPr>
          <a:xfrm>
            <a:off x="363600" y="50115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2"/>
          <p:cNvSpPr/>
          <p:nvPr/>
        </p:nvSpPr>
        <p:spPr>
          <a:xfrm>
            <a:off x="365040" y="53751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new account bal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3"/>
          <p:cNvSpPr/>
          <p:nvPr/>
        </p:nvSpPr>
        <p:spPr>
          <a:xfrm>
            <a:off x="363600" y="574992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number in the Post. Ref. column of the journ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2, page 10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1:29:13Z</dcterms:created>
  <dc:creator>Mary Colleen McLaughlin</dc:creator>
  <dc:description/>
  <dc:language>en-US</dc:language>
  <cp:lastModifiedBy>David Combs</cp:lastModifiedBy>
  <cp:lastPrinted>1999-03-30T06:51:35Z</cp:lastPrinted>
  <dcterms:modified xsi:type="dcterms:W3CDTF">2011-10-19T22:02:38Z</dcterms:modified>
  <cp:revision>15</cp:revision>
  <dc:subject/>
  <dc:title>THE ACCOUNTING EQUATION</dc:title>
</cp:coreProperties>
</file>